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65628-BBFC-48CD-AE17-6C758177B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6126A-F0D3-42ED-B184-9FBAA3924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7F19C-AE5F-4D1E-8D20-D669D3574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3673B-175C-4123-BA9B-66BDBF60E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C84E-6094-4EC5-A349-2C30A3CA6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D29A4-287D-4A70-ADED-B0E9471E4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75768-A669-477C-8D64-74CE9D57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33DAF-E081-4E14-9337-F0A940C42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2B5C-3159-4F1C-9528-9FD60B986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F0793-A0FF-4102-8301-2B5FD0E8F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5E54-E7BC-4EE9-BFC4-4F9B9E882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15919-BA19-48C0-8CEF-AA0A24847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AF7B-849B-4A96-BA52-1AD2F87C7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1905120" y="4572000"/>
            <a:ext cx="5181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esiunea iunie - iuli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med" advTm="5000">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spd="med" advTm="5000">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spd="med" advTm="5000">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ws19</cp:lastModifiedBy>
  <dcterms:modified xsi:type="dcterms:W3CDTF">2012-06-18T11:04:02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